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97B-9D65-40ED-87C6-440F2E4B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BC7-43FA-4D43-879B-B5F8D545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BD2-D18B-4781-B84F-E036C9B3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195-D81D-4C72-82FB-BDAB1FA0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ECE-E4FD-44B7-B06C-5EB4C9E2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F79-7552-4771-839A-43A6E643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511-9297-4F28-9DE4-77781D70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28B-6A2F-4192-8F31-4EF713AF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6B3-AE19-4FA3-B1D0-29C1BCB5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B1D-F64E-4F1C-906F-5F943E28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F17-BEB5-4B46-A59F-E10F5AC3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586-B32E-476C-9118-DF29D988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727F-A2B6-4462-99BF-DAC97F931D4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ketone.jpg"/>
          <p:cNvPicPr/>
          <p:nvPr/>
        </p:nvPicPr>
        <p:blipFill>
          <a:blip r:embed="rId1"/>
          <a:stretch/>
        </p:blipFill>
        <p:spPr>
          <a:xfrm>
            <a:off x="-324000" y="-387360"/>
            <a:ext cx="9294840" cy="724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sdf.bmp"/>
          <p:cNvPicPr/>
          <p:nvPr/>
        </p:nvPicPr>
        <p:blipFill>
          <a:blip r:embed="rId2"/>
          <a:stretch/>
        </p:blipFill>
        <p:spPr>
          <a:xfrm>
            <a:off x="8204040" y="5918040"/>
            <a:ext cx="939960" cy="939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000000"/>
                </a:solidFill>
                <a:latin typeface="Reprise Stamp"/>
              </a:rPr>
              <a:t>The Throw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90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Of KET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156360" y="6165720"/>
            <a:ext cx="24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Smudger LET"/>
              </a:rPr>
              <a:t>who will be crowned?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-181080" y="656604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commons.wikimedia.org/wiki/File:Acetone-3D-balls.p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This </a:t>
            </a:r>
            <a:r>
              <a:rPr b="0" lang="en-CA" sz="4400" spc="-1" strike="noStrike">
                <a:solidFill>
                  <a:srgbClr val="ff0000"/>
                </a:solidFill>
                <a:latin typeface="Smudger LET"/>
              </a:rPr>
              <a:t>illness</a:t>
            </a: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 will leave you feeling nauseated, w/ abdominal pain and headaches.</a:t>
            </a:r>
            <a:r>
              <a:rPr b="0" lang="en-CA" sz="4400" spc="-1" strike="noStrike">
                <a:solidFill>
                  <a:srgbClr val="ff0000"/>
                </a:solidFill>
                <a:latin typeface="Smudger LET"/>
              </a:rPr>
              <a:t> 20-50% </a:t>
            </a: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chance of death!!!!!! What is the name of this disease? Rearrange the letters to find ou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619280" y="371628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030a0"/>
                </a:solidFill>
                <a:latin typeface="Reprise Stamp"/>
              </a:rPr>
              <a:t>B c o s a t e I k s d t I c d o a I I e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PROPER ANSWER</a:t>
            </a:r>
            <a:br>
              <a:rPr sz="4400"/>
            </a:br>
            <a:r>
              <a:rPr b="0" lang="en-CA" sz="6600" spc="-1" strike="noStrike">
                <a:solidFill>
                  <a:srgbClr val="ff0000"/>
                </a:solidFill>
                <a:latin typeface="Smudger LET"/>
              </a:rPr>
              <a:t>diabetic ketoacid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920" y="765000"/>
            <a:ext cx="554544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Round 3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r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Sound out the sounds, until your group knows which ketone it 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r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Figure out the structural formula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r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First team to draw it properly on the board wins that ques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r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If you want to check the answer first, there is an answer key on the front des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mudger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Value – </a:t>
            </a:r>
            <a:r>
              <a:rPr b="0" lang="en-CA" sz="3200" spc="-1" strike="noStrike">
                <a:solidFill>
                  <a:srgbClr val="ff0000"/>
                </a:solidFill>
                <a:latin typeface="Smudger LET"/>
              </a:rPr>
              <a:t>2 pts</a:t>
            </a: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asdfs.jpg"/>
          <p:cNvPicPr/>
          <p:nvPr/>
        </p:nvPicPr>
        <p:blipFill>
          <a:blip r:embed="rId1"/>
          <a:stretch/>
        </p:blipFill>
        <p:spPr>
          <a:xfrm>
            <a:off x="171360" y="396720"/>
            <a:ext cx="2632320" cy="1756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0" y="1844640"/>
            <a:ext cx="525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www.csrplus.co.uk/blog/?p=18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DIh ye meh thi yill key tohhhh 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PROPER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Users\Larry\Pictures\a.bmp"/>
          <p:cNvPicPr/>
          <p:nvPr/>
        </p:nvPicPr>
        <p:blipFill>
          <a:blip r:embed="rId1"/>
          <a:stretch/>
        </p:blipFill>
        <p:spPr>
          <a:xfrm>
            <a:off x="2362320" y="1676520"/>
            <a:ext cx="4852800" cy="3760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971640" y="5877000"/>
            <a:ext cx="77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s://www.medicinescomplete.com/mc/clarke/current/login.htm?uri=http%3A%2F%2Fwww.medicinescomplete.com%2Fmc%2Fclarke%2F2009%2FCLK0019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Hah cx Ah en tu ow oh ne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PROPER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C:\Users\Larry\Documents\Katherine Homework\Chem121\afsd.bmp"/>
          <p:cNvPicPr/>
          <p:nvPr/>
        </p:nvPicPr>
        <p:blipFill>
          <a:blip r:embed="rId1"/>
          <a:stretch/>
        </p:blipFill>
        <p:spPr>
          <a:xfrm>
            <a:off x="1447920" y="20574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900000" y="5950080"/>
            <a:ext cx="792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en.wikipedia.org/wiki/Hexan-2-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Ben sohh fih noh m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PROPER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C:\Users\Larry\Documents\Katherine Homework\Chem121\untitled.bmp"/>
          <p:cNvPicPr/>
          <p:nvPr/>
        </p:nvPicPr>
        <p:blipFill>
          <a:blip r:embed="rId1"/>
          <a:stretch/>
        </p:blipFill>
        <p:spPr>
          <a:xfrm>
            <a:off x="1828800" y="2057400"/>
            <a:ext cx="5638680" cy="3132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403280" y="5589720"/>
            <a:ext cx="712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www.google.ca/imgres?imgurl=http://www.lookchem.com/300w/201001/img/119-61-9.jpg&amp;imgrefurl=http://www.lookchem.com/benzophenone/&amp;usg=__ohB20s9LuCwLPUg6uAoCVI6c7jM=&amp;h=60&amp;w=107&amp;sz=2&amp;hl=en&amp;start=47&amp;zoom=1&amp;tbnid=y9OQY9or_Hl84M:&amp;tbnh=55&amp;tbnw=99&amp;prev=/images%3Fq%3Dbenzophenone%26um%3D1%26hl%3Den%26rlz%3D1R2TSHC_enCA348%26biw%3D763%26bih%3D393%26tbs%3Disch:10%2C1750&amp;um=1&amp;itbs=1&amp;iact=hc&amp;vpx=577&amp;vpy=243&amp;dur=203&amp;hovh=55&amp;hovw=99&amp;tx=106&amp;ty=34&amp;ei=0zaZTKjnJcij4AaZjblF&amp;oei=uDaZTLjBA5Gg4Qa-wIn2Dw&amp;esq=7&amp;page=7&amp;ndsp=8&amp;ved=1t:429,r:7,s:47&amp;biw=763&amp;bih=3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Th rii m eh th yil       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beh u tay ehn tu ow oh n he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800" spc="-1" strike="noStrike">
                <a:solidFill>
                  <a:srgbClr val="000000"/>
                </a:solidFill>
                <a:latin typeface="Reprise Stamp"/>
              </a:rPr>
              <a:t>?!Prizes!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611280" y="198900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000000"/>
                </a:solidFill>
                <a:latin typeface="Smudger LET"/>
              </a:rPr>
              <a:t>A lovely…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763640" y="3284640"/>
            <a:ext cx="71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c00000"/>
                </a:solidFill>
                <a:latin typeface="Smudger LET"/>
              </a:rPr>
              <a:t>Apple</a:t>
            </a:r>
            <a:r>
              <a:rPr b="0" lang="en-CA" sz="4000" spc="-1" strike="noStrike">
                <a:solidFill>
                  <a:srgbClr val="000000"/>
                </a:solidFill>
                <a:latin typeface="Smudger LET"/>
              </a:rPr>
              <a:t> crumble tart, courtesy of the simplest aromatic ketone, acetophenon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asd.jpg"/>
          <p:cNvPicPr/>
          <p:nvPr/>
        </p:nvPicPr>
        <p:blipFill>
          <a:blip r:embed="rId1"/>
          <a:stretch/>
        </p:blipFill>
        <p:spPr>
          <a:xfrm>
            <a:off x="-182520" y="4230720"/>
            <a:ext cx="3541680" cy="2554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132000" y="6149880"/>
            <a:ext cx="576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commons.wikimedia.org/wiki/File:Acetophenone-3D-balls.p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Smudger LET"/>
              </a:rPr>
              <a:t>PROPER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C:\Users\Larry\Documents\Katherine Homework\Chem121\Image1907.gif"/>
          <p:cNvPicPr/>
          <p:nvPr/>
        </p:nvPicPr>
        <p:blipFill>
          <a:blip r:embed="rId1"/>
          <a:stretch/>
        </p:blipFill>
        <p:spPr>
          <a:xfrm>
            <a:off x="1600200" y="2362320"/>
            <a:ext cx="6405480" cy="2151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332000" y="5877000"/>
            <a:ext cx="72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www.docbrown.info/page06/AldehydesKetones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agesaa.jpg"/>
          <p:cNvPicPr/>
          <p:nvPr/>
        </p:nvPicPr>
        <p:blipFill>
          <a:blip r:embed="rId1"/>
          <a:stretch/>
        </p:blipFill>
        <p:spPr>
          <a:xfrm>
            <a:off x="324000" y="3429000"/>
            <a:ext cx="2376360" cy="3021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8287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How do </a:t>
            </a:r>
            <a:r>
              <a:rPr b="0" lang="en-CA" sz="4400" spc="-1" strike="noStrike" u="sng">
                <a:solidFill>
                  <a:srgbClr val="000000"/>
                </a:solidFill>
                <a:uFillTx/>
                <a:latin typeface="Reprise Stamp"/>
              </a:rPr>
              <a:t>you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 </a:t>
            </a:r>
            <a:r>
              <a:rPr b="0" lang="en-CA" sz="4400" spc="-1" strike="noStrike">
                <a:solidFill>
                  <a:srgbClr val="ff0000"/>
                </a:solidFill>
                <a:latin typeface="Reprise Stamp"/>
              </a:rPr>
              <a:t>win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7280" y="1844280"/>
            <a:ext cx="752184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Smudger LET"/>
              </a:rPr>
              <a:t>The class will divide into FOUR large groups by sectioning off the quarters of the class, according to the seating plan. This is your team. Each question will differ a little in instructions. Make sure to follow them! :)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484360" y="6021360"/>
            <a:ext cx="640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www.streetsmartreport.com/about%20market%20timing%20strategy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0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Round 1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aaa.jpg"/>
          <p:cNvPicPr/>
          <p:nvPr/>
        </p:nvPicPr>
        <p:blipFill>
          <a:blip r:embed="rId1"/>
          <a:stretch/>
        </p:blipFill>
        <p:spPr>
          <a:xfrm>
            <a:off x="317520" y="328680"/>
            <a:ext cx="2548080" cy="1811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1547640" y="1225440"/>
            <a:ext cx="6480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Smudger LET"/>
              </a:rPr>
              <a:t>Complete each task as quickly as possible while using as many members of your team as you ne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Smudger LET"/>
              </a:rPr>
              <a:t>We will watch each group to see who is the fastest, but make sure we see you are done, just to be certain! :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Smudger LET"/>
              </a:rPr>
              <a:t>As soon as you read the question you may begin.  Value- </a:t>
            </a:r>
            <a:r>
              <a:rPr b="0" lang="en-CA" sz="3600" spc="-1" strike="noStrike">
                <a:solidFill>
                  <a:srgbClr val="ff0000"/>
                </a:solidFill>
                <a:latin typeface="Smudger LET"/>
              </a:rPr>
              <a:t>3 p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0000"/>
                </a:solidFill>
                <a:latin typeface="Smudger LET"/>
              </a:rPr>
              <a:t>Hint if you’re feeling lost, open your textbook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116000" y="1125360"/>
            <a:ext cx="828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www.azfotos.com/food_meals/fruits/apples_pictures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assemble yourselves into the structure of ace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ton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  ensure you </a:t>
            </a:r>
            <a:r>
              <a:rPr b="0" lang="en-CA" sz="4400" spc="-1" strike="noStrike">
                <a:solidFill>
                  <a:srgbClr val="2d2db9"/>
                </a:solidFill>
                <a:latin typeface="Reprise Stamp"/>
              </a:rPr>
              <a:t>show the bonds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! And </a:t>
            </a:r>
            <a:r>
              <a:rPr b="0" lang="en-CA" sz="4400" spc="-1" strike="noStrike">
                <a:solidFill>
                  <a:srgbClr val="00b050"/>
                </a:solidFill>
                <a:latin typeface="Reprise Stamp"/>
              </a:rPr>
              <a:t>Hydrogens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Same concept as last question, this time form </a:t>
            </a:r>
            <a:r>
              <a:rPr b="0" lang="en-CA" sz="4400" spc="-1" strike="noStrike">
                <a:solidFill>
                  <a:srgbClr val="ff0000"/>
                </a:solidFill>
                <a:latin typeface="Reprise Stamp"/>
              </a:rPr>
              <a:t>benzophenone</a:t>
            </a: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, more than one person per phenyl is required.</a:t>
            </a:r>
            <a:br>
              <a:rPr sz="4400"/>
            </a:br>
            <a:r>
              <a:rPr b="0" lang="en-CA" sz="4400" spc="-1" strike="noStrike">
                <a:solidFill>
                  <a:srgbClr val="00b050"/>
                </a:solidFill>
                <a:latin typeface="Reprise Stamp"/>
              </a:rPr>
              <a:t>Must</a:t>
            </a:r>
            <a:r>
              <a:rPr b="0" lang="en-CA" sz="4400" spc="-1" strike="noStrike">
                <a:solidFill>
                  <a:srgbClr val="2d2db9"/>
                </a:solidFill>
                <a:latin typeface="Reprise Stamp"/>
              </a:rPr>
              <a:t> show bond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By using items around the classroom create a structural formula, of </a:t>
            </a:r>
            <a:r>
              <a:rPr b="0" lang="en-CA" sz="4400" spc="-1" strike="noStrike">
                <a:solidFill>
                  <a:srgbClr val="7030a0"/>
                </a:solidFill>
                <a:latin typeface="Reprise Stamp"/>
              </a:rPr>
              <a:t>4,5-methyl decan-2-on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hydrogens do not need to be sh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Reprise Stamp"/>
              </a:rPr>
              <a:t>By using items around the classroom create a </a:t>
            </a:r>
            <a:r>
              <a:rPr b="0" lang="en-CA" sz="3600" spc="-1" strike="noStrike">
                <a:solidFill>
                  <a:srgbClr val="ff0000"/>
                </a:solidFill>
                <a:latin typeface="Reprise Stamp"/>
              </a:rPr>
              <a:t>3d</a:t>
            </a:r>
            <a:r>
              <a:rPr b="0" lang="en-CA" sz="3600" spc="-1" strike="noStrike">
                <a:solidFill>
                  <a:srgbClr val="000000"/>
                </a:solidFill>
                <a:latin typeface="Reprise Stamp"/>
              </a:rPr>
              <a:t> structure , of </a:t>
            </a:r>
            <a:r>
              <a:rPr b="0" lang="en-CA" sz="3600" spc="-1" strike="noStrike">
                <a:solidFill>
                  <a:srgbClr val="7030a0"/>
                </a:solidFill>
                <a:latin typeface="Reprise Stamp"/>
              </a:rPr>
              <a:t>Propanone. </a:t>
            </a:r>
            <a:r>
              <a:rPr b="0" lang="en-CA" sz="3600" spc="-1" strike="noStrike">
                <a:solidFill>
                  <a:srgbClr val="000000"/>
                </a:solidFill>
                <a:latin typeface="Reprise Stamp"/>
              </a:rPr>
              <a:t>Bonds are required, and hydrogens. Team-mates are permitted to hold up structure if needed (only using </a:t>
            </a:r>
            <a:r>
              <a:rPr b="0" lang="en-CA" sz="3600" spc="-1" strike="noStrike">
                <a:solidFill>
                  <a:srgbClr val="00b050"/>
                </a:solidFill>
                <a:latin typeface="Reprise Stamp"/>
              </a:rPr>
              <a:t>one hand each</a:t>
            </a:r>
            <a:r>
              <a:rPr b="0" lang="en-CA" sz="3600" spc="-1" strike="noStrike">
                <a:solidFill>
                  <a:srgbClr val="000000"/>
                </a:solidFill>
                <a:latin typeface="Reprise Stamp"/>
              </a:rPr>
              <a:t>!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620280"/>
            <a:ext cx="539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Reprise Stamp"/>
              </a:rPr>
              <a:t>Round 2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s.jpg"/>
          <p:cNvPicPr/>
          <p:nvPr/>
        </p:nvPicPr>
        <p:blipFill>
          <a:blip r:embed="rId1"/>
          <a:stretch/>
        </p:blipFill>
        <p:spPr>
          <a:xfrm>
            <a:off x="822240" y="396720"/>
            <a:ext cx="2627280" cy="1756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1476360" y="2349360"/>
            <a:ext cx="597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Solve the r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Come up to us, and we will check your answ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First team to solve the riddle wins ques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Smudger LET"/>
              </a:rPr>
              <a:t>Value – </a:t>
            </a:r>
            <a:r>
              <a:rPr b="0" lang="en-CA" sz="3200" spc="-1" strike="noStrike">
                <a:solidFill>
                  <a:srgbClr val="ff0000"/>
                </a:solidFill>
                <a:latin typeface="Smudger LET"/>
              </a:rPr>
              <a:t>2 p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39640" y="2205000"/>
            <a:ext cx="70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http://ladiesdotdotdot.wordpress.com/page/3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0:19:48Z</dcterms:created>
  <dc:creator>Larry</dc:creator>
  <dc:description/>
  <dc:language>en-US</dc:language>
  <cp:lastModifiedBy>Larry</cp:lastModifiedBy>
  <dcterms:modified xsi:type="dcterms:W3CDTF">2010-09-24T00:41:40Z</dcterms:modified>
  <cp:revision>41</cp:revision>
  <dc:subject/>
  <dc:title>MAD GAB </dc:title>
</cp:coreProperties>
</file>